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BA7-5504-4B15-A82D-7AD4091A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FA7-FED7-4A99-98AF-B4E44D5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570-16BB-4531-969C-31838797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EFA-27C0-4EF2-AFF3-7D8C111A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293-C433-4FBD-B445-5369311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51D-B509-4AE2-8999-C1F9EFB7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0F9-77BF-4FE1-81C7-F90B3878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0F2-3984-4EFF-AA84-895F0ED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736-FA0E-49EF-ABAE-82FFFE1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E8A-A093-43B1-98F3-896D97C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78F-377F-455D-92A3-AF50A5C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EFA-609B-4633-AA1C-1CD728F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32B-9D76-423C-96C5-E4D0B52E2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4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400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к занятию «Путешествие колобка в мир насеком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жучков она милей, спинка алая на н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а ней кружочки, чёрненькие точки. (божья ко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ятся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любит он куса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ь и маленький банд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гда летит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щит. (ком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32320" y="362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09720" y="1916280"/>
            <a:ext cx="77770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628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647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ыгает пружинка, зелёная спин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равы на былинку, с ветки на тропинку (кузнеч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я жужжу, лета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 целебный собира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м полезна и ми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лопотливая...(пч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74840" y="2133720"/>
            <a:ext cx="80895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тает над вод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толетик голуб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ик, крылья и глаз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осто...(стреко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3600" y="333000"/>
            <a:ext cx="879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работник настоящий,очень, очень работящий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сосной в лесу густом, из хвоинок строит дом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з работы хоть убей, жить не может. (мураве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14716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 цветком порхает, пляше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ером узорным машет. (баб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3272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жужжу, когда сижу, не жужжу ,когда хож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в воздухе кружусь, тут уж вдоволь нажужжусь. (ж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20840" y="191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0:33:51Z</dcterms:created>
  <dc:creator>Serg Bronnikov</dc:creator>
  <dc:description/>
  <dc:language>en-US</dc:language>
  <cp:lastModifiedBy>Serg Bronnikov</cp:lastModifiedBy>
  <dcterms:modified xsi:type="dcterms:W3CDTF">2017-03-16T20:24:41Z</dcterms:modified>
  <cp:revision>10</cp:revision>
  <dc:subject/>
  <dc:title>Slide 1</dc:title>
</cp:coreProperties>
</file>