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C52-DAA2-44C7-89E6-B12ED697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55B-86AC-41BE-A006-5C6B7F07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8ED-8CFC-465E-972E-13DA692F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AF0-FF3B-4846-B6E3-529DA55E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208-562C-4FFB-AE32-934C6D78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E6E-DE10-435F-8DF3-4D073D2B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8D2-61BF-47C9-9AF9-96A497FB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D48-1964-450A-B7E8-83E7A700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A4B-A280-4F5F-B6E1-50A1333D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085-73A7-453F-8537-C471252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32B-BDB2-4E4B-B7F3-EAECA048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2E4-8AC0-4EBD-81E2-3CA59E02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9E71-8401-4276-BC6F-D4926F619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4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4008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 к занятию «Путешествие колобка в мир насеком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х жучков она милей, спинка алая на н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на ней кружочки, чёрненькие точки. (божья коров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ятся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любит он кусать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ь и маленький банди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огда летит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щит. (ком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32320" y="362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09720" y="1916280"/>
            <a:ext cx="777708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628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8064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ыгает пружинка, зелёная спин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равы на былинку, с ветки на тропинку (кузнеч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ко я жужжу, лета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 целебный собира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м полезна и мил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опотливая...(пче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74840" y="2133720"/>
            <a:ext cx="8089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тает над вод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олетик голубо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остик, крылья и глаз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осто...(стреко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822960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93600" y="333000"/>
            <a:ext cx="879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н работник настоящий,очень, очень работящий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 сосной в лесу густом, из хвоинок строит дом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з работы хоть убей, жить не может. (мураве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14716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 цветком порхает, пляш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ром узорным машет. (бабо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жужжу, когда сижу, не жужжу ,когда хож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в воздухе кружусь, тут уж вдоволь нажужжусь. (жу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20840" y="191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10:33:51Z</dcterms:created>
  <dc:creator>Serg Bronnikov</dc:creator>
  <dc:description/>
  <dc:language>en-US</dc:language>
  <cp:lastModifiedBy>Serg Bronnikov</cp:lastModifiedBy>
  <dcterms:modified xsi:type="dcterms:W3CDTF">2017-03-16T20:24:41Z</dcterms:modified>
  <cp:revision>10</cp:revision>
  <dc:subject/>
  <dc:title>Slide 1</dc:title>
</cp:coreProperties>
</file>