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060-10CD-4A0F-B690-19142576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5E0-1755-4948-9F95-55E06008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18F-2940-4CCE-975A-5A0FCEB8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6E5-E5CD-4995-B590-045BF504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70C-36B5-4C79-B196-466A103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698-5FF3-40C5-B5AB-B1FFA264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615-2C58-491C-A34F-5FAC8AF2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1C7-F4DD-4A87-88B5-AFF7FB47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F27-41C2-49BC-8B8F-29521F5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9CB-DB92-406A-8764-5744396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FC5-DF63-4160-B329-3DBC09D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44B-6D27-4D19-9D36-61C5CFA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586-125C-45DB-B0C5-D447C825E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4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к занятию «Путешествие колобка в мир насеком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жучков она милей, спинка алая на н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а ней кружочки, чёрненькие точки. (божья коров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ятся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любит он куса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ь и маленький бан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гда летит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ит. (ком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2320" y="362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09720" y="1916280"/>
            <a:ext cx="777708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628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64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гает пружинка, зелёная спи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равы на былинку, с ветки на тропинку (кузнеч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я жужжу, лет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 целебный собира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полезна и ми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потливая...(пч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74840" y="2133720"/>
            <a:ext cx="8089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тает над вод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олетик голуб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ик, крылья и глаз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осто...(стреко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93600" y="33300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работник настоящий,очень, очень работящий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сосной в лесу густом, из хвоинок строит до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з работы хоть убей, жить не может. (мураве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14716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цветком порхает, пляш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ром узорным машет. (баб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сижу, не жужжу ,когда хож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в воздухе кружусь, тут уж вдоволь нажужжусь. (ж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20840" y="191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0:33:51Z</dcterms:created>
  <dc:creator>Serg Bronnikov</dc:creator>
  <dc:description/>
  <dc:language>en-US</dc:language>
  <cp:lastModifiedBy>Serg Bronnikov</cp:lastModifiedBy>
  <dcterms:modified xsi:type="dcterms:W3CDTF">2017-03-16T20:24:41Z</dcterms:modified>
  <cp:revision>10</cp:revision>
  <dc:subject/>
  <dc:title>Slide 1</dc:title>
</cp:coreProperties>
</file>